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0E7-43D8-4A77-909D-0ACBF719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1FB-B76A-49F3-A4A7-2B964F84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499-AD28-4D8E-98A0-2AEB9968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478-A4D3-42A4-A425-AD7C060A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469-EE98-4E20-8A06-5493C1AF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860-8B8A-4CE2-A446-E69066B1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BC6-6191-4905-82A9-C02163EB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5CF-3845-4296-827F-D39985E9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11C-6B55-4B6B-9FC1-03B509C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F39-A5C5-4E31-8160-C271A9E3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2BF-6495-4FE0-8F4A-E78B12EC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747-8ABF-4B52-A011-1C262997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378C-593D-401B-816E-35F999BEF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961400" y="6237360"/>
            <a:ext cx="7189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64040" y="2914200"/>
            <a:ext cx="209484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6480" y="293220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66" y="13465"/>
                </a:moveTo>
                <a:arcTo wR="10800" hR="10800" stAng="857023" swAng="7225223"/>
                <a:lnTo>
                  <a:pt x="10800" y="10800"/>
                </a:lnTo>
                <a:close/>
              </a:path>
              <a:path fill="none" w="21600" h="21600">
                <a:moveTo>
                  <a:pt x="21266" y="13465"/>
                </a:moveTo>
                <a:arcTo wR="10800" hR="10800" stAng="857023" swAng="722522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57200" y="291132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0" y="8071"/>
                </a:moveTo>
                <a:arcTo wR="10800" hR="10800" stAng="-9921814" swAng="7174013"/>
                <a:lnTo>
                  <a:pt x="10800" y="10800"/>
                </a:lnTo>
                <a:close/>
              </a:path>
              <a:path fill="none" w="21600" h="21600">
                <a:moveTo>
                  <a:pt x="350" y="8071"/>
                </a:moveTo>
                <a:arcTo wR="10800" hR="10800" stAng="-9921814" swAng="717401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59000" y="2921400"/>
            <a:ext cx="2095560" cy="209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73" y="18447"/>
                </a:moveTo>
                <a:arcTo wR="10800" hR="10800" stAng="8095552" swAng="3578608"/>
                <a:lnTo>
                  <a:pt x="10800" y="10800"/>
                </a:lnTo>
                <a:close/>
              </a:path>
              <a:path fill="none" w="21600" h="21600">
                <a:moveTo>
                  <a:pt x="3173" y="18447"/>
                </a:moveTo>
                <a:arcTo wR="10800" hR="10800" stAng="8095552" swAng="3578608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0960" y="558720"/>
            <a:ext cx="7772400" cy="1152720"/>
          </a:xfrm>
          <a:prstGeom prst="rect">
            <a:avLst/>
          </a:prstGeom>
          <a:gradFill rotWithShape="0">
            <a:gsLst>
              <a:gs pos="0">
                <a:srgbClr val="99ff99">
                  <a:alpha val="50196"/>
                </a:srgbClr>
              </a:gs>
              <a:gs pos="100000">
                <a:srgbClr val="0033cc">
                  <a:alpha val="90196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ffff99"/>
                </a:solidFill>
                <a:latin typeface="Arial"/>
              </a:rPr>
              <a:t>Scheitel-</a:t>
            </a:r>
            <a:r>
              <a:rPr b="1" lang="de-AT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AT" sz="4400" spc="-1" strike="noStrike">
                <a:solidFill>
                  <a:srgbClr val="808080"/>
                </a:solidFill>
                <a:latin typeface="Arial"/>
              </a:rPr>
              <a:t>und</a:t>
            </a:r>
            <a:r>
              <a:rPr b="1" lang="de-AT" sz="4400" spc="-1" strike="noStrike">
                <a:solidFill>
                  <a:srgbClr val="0033cc"/>
                </a:solidFill>
                <a:latin typeface="Arial"/>
              </a:rPr>
              <a:t> Nebenwin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5481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9877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7600" y="32670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87880" y="4248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sp>
          <p:nvSpPr>
            <p:cNvPr id="52" name=""/>
            <p:cNvSpPr/>
            <p:nvPr/>
          </p:nvSpPr>
          <p:spPr>
            <a:xfrm>
              <a:off x="5943600" y="17557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08680" y="463536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1552320" y="3266640"/>
              <a:ext cx="518292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2344680" y="2116080"/>
              <a:ext cx="3672000" cy="3743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025880" y="2247840"/>
            <a:ext cx="939960" cy="584280"/>
          </a:xfrm>
          <a:prstGeom prst="wedgeRoundRectCallout">
            <a:avLst>
              <a:gd name="adj1" fmla="val -33782"/>
              <a:gd name="adj2" fmla="val 132879"/>
              <a:gd name="adj3" fmla="val 1666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4012920" y="5124600"/>
            <a:ext cx="1143000" cy="761760"/>
          </a:xfrm>
          <a:prstGeom prst="wedgeEllipseCallout">
            <a:avLst>
              <a:gd name="adj1" fmla="val 14305"/>
              <a:gd name="adj2" fmla="val 122703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53200" y="3362400"/>
            <a:ext cx="838080" cy="431640"/>
          </a:xfrm>
          <a:prstGeom prst="wedgeRectCallout">
            <a:avLst>
              <a:gd name="adj1" fmla="val -90342"/>
              <a:gd name="adj2" fmla="val 3933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rot="87600">
            <a:off x="1077120" y="3901680"/>
            <a:ext cx="1579680" cy="844560"/>
          </a:xfrm>
          <a:prstGeom prst="cloudCallout">
            <a:avLst>
              <a:gd name="adj1" fmla="val -91481"/>
              <a:gd name="adj2" fmla="val -1416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1800" y="3895560"/>
            <a:ext cx="136440" cy="136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700600" cy="576360"/>
          </a:xfrm>
          <a:prstGeom prst="rect">
            <a:avLst/>
          </a:prstGeom>
          <a:gradFill rotWithShape="0">
            <a:gsLst>
              <a:gs pos="0">
                <a:srgbClr val="99ff99">
                  <a:alpha val="45098"/>
                </a:srgbClr>
              </a:gs>
              <a:gs pos="100000">
                <a:srgbClr val="0033cc">
                  <a:alpha val="76078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99"/>
                </a:solidFill>
                <a:latin typeface="Arial Black"/>
              </a:rPr>
              <a:t>Scheitel-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de-AT" sz="2800" spc="-1" strike="noStrike">
                <a:solidFill>
                  <a:srgbClr val="808080"/>
                </a:solidFill>
                <a:latin typeface="Arial Black"/>
              </a:rPr>
              <a:t>und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Neben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1206360"/>
            <a:ext cx="36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ie Geraden a und b schließen den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 ein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83120" y="2914200"/>
            <a:ext cx="209484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36273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sp>
          <p:nvSpPr>
            <p:cNvPr id="66" name=""/>
            <p:cNvSpPr/>
            <p:nvPr/>
          </p:nvSpPr>
          <p:spPr>
            <a:xfrm>
              <a:off x="4138560" y="389880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1552320" y="1755720"/>
                <a:ext cx="5689800" cy="4103640"/>
                <a:chOff x="1552320" y="1755720"/>
                <a:chExt cx="5689800" cy="410364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5943600" y="1755720"/>
                  <a:ext cx="433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808680" y="4635360"/>
                  <a:ext cx="433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 flipV="1">
                  <a:off x="1552320" y="3266640"/>
                  <a:ext cx="5182920" cy="1368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V="1">
                  <a:off x="2344680" y="2116080"/>
                  <a:ext cx="3672000" cy="37432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4057920" y="40132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5640480" cy="576360"/>
          </a:xfrm>
          <a:prstGeom prst="rect">
            <a:avLst/>
          </a:prstGeom>
          <a:gradFill rotWithShape="0">
            <a:gsLst>
              <a:gs pos="0">
                <a:srgbClr val="99ff99">
                  <a:alpha val="45098"/>
                </a:srgbClr>
              </a:gs>
              <a:gs pos="100000">
                <a:srgbClr val="0033cc">
                  <a:alpha val="76078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99"/>
                </a:solidFill>
                <a:latin typeface="Arial Black"/>
              </a:rPr>
              <a:t>Scheitel-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de-AT" sz="2800" spc="-1" strike="noStrike">
                <a:solidFill>
                  <a:srgbClr val="808080"/>
                </a:solidFill>
                <a:latin typeface="Arial Black"/>
              </a:rPr>
              <a:t>und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Neben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1080" y="1258920"/>
            <a:ext cx="36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Winkel 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γ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 ist der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Scheitelwinkel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 zum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0040" y="199080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sind gleich gro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83120" y="2914200"/>
            <a:ext cx="209484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59000" y="2921400"/>
            <a:ext cx="2095560" cy="209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73" y="18447"/>
                </a:moveTo>
                <a:arcTo wR="10800" hR="10800" stAng="8095552" swAng="3578608"/>
                <a:lnTo>
                  <a:pt x="10800" y="10800"/>
                </a:lnTo>
                <a:close/>
              </a:path>
              <a:path fill="none" w="21600" h="21600">
                <a:moveTo>
                  <a:pt x="3173" y="18447"/>
                </a:moveTo>
                <a:arcTo wR="10800" hR="10800" stAng="8095552" swAng="3578608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6273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9877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grpSp>
          <p:nvGrpSpPr>
            <p:cNvPr id="82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sp>
            <p:nvSpPr>
              <p:cNvPr id="83" name=""/>
              <p:cNvSpPr/>
              <p:nvPr/>
            </p:nvSpPr>
            <p:spPr>
              <a:xfrm>
                <a:off x="5943600" y="175572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8680" y="463536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>
                <a:off x="1552320" y="3266640"/>
                <a:ext cx="5182920" cy="1368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344680" y="2116080"/>
                <a:ext cx="3672000" cy="374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137120" y="389268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57920" y="4013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43640" y="2597040"/>
            <a:ext cx="2732760" cy="272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2" y="8028"/>
                </a:moveTo>
                <a:arcTo wR="10800" hR="10800" stAng="-9907717" swAng="10812432"/>
                <a:lnTo>
                  <a:pt x="10800" y="10800"/>
                </a:lnTo>
                <a:close/>
              </a:path>
              <a:path fill="none" w="21600" h="21600">
                <a:moveTo>
                  <a:pt x="362" y="8028"/>
                </a:moveTo>
                <a:arcTo wR="10800" hR="10800" stAng="-9907717" swAng="10812432"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51080" y="2919240"/>
            <a:ext cx="209592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2" y="8028"/>
                </a:moveTo>
                <a:arcTo wR="10800" hR="10800" stAng="-9907717" swAng="7156620"/>
                <a:lnTo>
                  <a:pt x="10800" y="10800"/>
                </a:lnTo>
                <a:close/>
              </a:path>
              <a:path fill="none" w="21600" h="21600">
                <a:moveTo>
                  <a:pt x="362" y="8028"/>
                </a:moveTo>
                <a:arcTo wR="10800" hR="10800" stAng="-9907717" swAng="7156620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738760" cy="576360"/>
          </a:xfrm>
          <a:prstGeom prst="rect">
            <a:avLst/>
          </a:prstGeom>
          <a:gradFill rotWithShape="0">
            <a:gsLst>
              <a:gs pos="0">
                <a:srgbClr val="99ff99">
                  <a:alpha val="45098"/>
                </a:srgbClr>
              </a:gs>
              <a:gs pos="100000">
                <a:srgbClr val="0033cc">
                  <a:alpha val="76078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99"/>
                </a:solidFill>
                <a:latin typeface="Arial Black"/>
              </a:rPr>
              <a:t>Scheitel-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de-AT" sz="2800" spc="-1" strike="noStrike">
                <a:solidFill>
                  <a:srgbClr val="808080"/>
                </a:solidFill>
                <a:latin typeface="Arial Black"/>
              </a:rPr>
              <a:t>und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Neben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70360" y="301608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7040" y="128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ist ein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Nebenwinkel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8840" y="2003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sind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supplementäre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Winkel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7760" y="512136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Symbol"/>
                <a:ea typeface="Symbol"/>
              </a:rPr>
              <a:t></a:t>
            </a: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587052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rgänzen einander auf 18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6578400">
            <a:off x="3958200" y="1905840"/>
            <a:ext cx="884160" cy="463680"/>
          </a:xfrm>
          <a:prstGeom prst="rightArrow">
            <a:avLst>
              <a:gd name="adj1" fmla="val 50000"/>
              <a:gd name="adj2" fmla="val 4767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48080" y="201312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49280" y="2914200"/>
            <a:ext cx="209556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36273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sp>
          <p:nvSpPr>
            <p:cNvPr id="102" name=""/>
            <p:cNvSpPr/>
            <p:nvPr/>
          </p:nvSpPr>
          <p:spPr>
            <a:xfrm>
              <a:off x="4141800" y="389556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1552320" y="1755720"/>
                <a:ext cx="5689800" cy="4103640"/>
                <a:chOff x="1552320" y="1755720"/>
                <a:chExt cx="5689800" cy="4103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943600" y="1755720"/>
                  <a:ext cx="433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808680" y="4635360"/>
                  <a:ext cx="433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>
                  <a:off x="1552320" y="3266640"/>
                  <a:ext cx="5182920" cy="1368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344680" y="2116080"/>
                  <a:ext cx="3672000" cy="37432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057920" y="40132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742000" cy="576360"/>
          </a:xfrm>
          <a:prstGeom prst="rect">
            <a:avLst/>
          </a:prstGeom>
          <a:gradFill rotWithShape="0">
            <a:gsLst>
              <a:gs pos="0">
                <a:srgbClr val="99ff99">
                  <a:alpha val="45098"/>
                </a:srgbClr>
              </a:gs>
              <a:gs pos="100000">
                <a:srgbClr val="0033cc">
                  <a:alpha val="76078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99"/>
                </a:solidFill>
                <a:latin typeface="Arial Black"/>
              </a:rPr>
              <a:t>Scheitel-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de-AT" sz="2800" spc="-1" strike="noStrike">
                <a:solidFill>
                  <a:srgbClr val="808080"/>
                </a:solidFill>
                <a:latin typeface="Arial Black"/>
              </a:rPr>
              <a:t>und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Neben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1274760"/>
            <a:ext cx="27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 ist auch ein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Nebenwinkel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8840" y="20048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supplementäre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Winkel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30760" y="5583240"/>
            <a:ext cx="20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Symbol"/>
                <a:ea typeface="Symbol"/>
              </a:rPr>
              <a:t></a:t>
            </a: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36880" y="61038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ergänzen einander auf 18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80240" y="380376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4360" y="2600280"/>
            <a:ext cx="2732040" cy="272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92" y="3021"/>
                </a:moveTo>
                <a:arcTo wR="10800" hR="10800" stAng="-2764731" swAng="10833773"/>
                <a:lnTo>
                  <a:pt x="10800" y="10800"/>
                </a:lnTo>
                <a:close/>
              </a:path>
              <a:path fill="none" w="21600" h="21600">
                <a:moveTo>
                  <a:pt x="18292" y="3021"/>
                </a:moveTo>
                <a:arcTo wR="10800" hR="10800" stAng="-2764731" swAng="10833773"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53600" y="2921040"/>
            <a:ext cx="209556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97" y="13723"/>
                </a:moveTo>
                <a:arcTo wR="10800" hR="10800" stAng="942220" swAng="7098096"/>
                <a:lnTo>
                  <a:pt x="10800" y="10800"/>
                </a:lnTo>
                <a:close/>
              </a:path>
              <a:path fill="none" w="21600" h="21600">
                <a:moveTo>
                  <a:pt x="21197" y="13723"/>
                </a:moveTo>
                <a:arcTo wR="10800" hR="10800" stAng="942220" swAng="7098096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1800" y="436896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54680" y="2914200"/>
            <a:ext cx="209484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36273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9910200">
            <a:off x="5608800" y="3341160"/>
            <a:ext cx="884160" cy="463680"/>
          </a:xfrm>
          <a:prstGeom prst="rightArrow">
            <a:avLst>
              <a:gd name="adj1" fmla="val 50000"/>
              <a:gd name="adj2" fmla="val 4767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grpSp>
          <p:nvGrpSpPr>
            <p:cNvPr id="123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sp>
            <p:nvSpPr>
              <p:cNvPr id="124" name=""/>
              <p:cNvSpPr/>
              <p:nvPr/>
            </p:nvSpPr>
            <p:spPr>
              <a:xfrm>
                <a:off x="5943600" y="175572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08680" y="463536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552320" y="3266640"/>
                <a:ext cx="5182920" cy="1368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344680" y="2116080"/>
                <a:ext cx="3672000" cy="374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145040" y="389556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0200" y="3424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5721120" cy="576360"/>
          </a:xfrm>
          <a:prstGeom prst="rect">
            <a:avLst/>
          </a:prstGeom>
          <a:gradFill rotWithShape="0">
            <a:gsLst>
              <a:gs pos="0">
                <a:srgbClr val="99ff99">
                  <a:alpha val="45098"/>
                </a:srgbClr>
              </a:gs>
              <a:gs pos="100000">
                <a:srgbClr val="0033cc">
                  <a:alpha val="7607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99"/>
                </a:solidFill>
                <a:latin typeface="Arial Black"/>
              </a:rPr>
              <a:t>Scheitel-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de-AT" sz="2800" spc="-1" strike="noStrike">
                <a:solidFill>
                  <a:srgbClr val="808080"/>
                </a:solidFill>
                <a:latin typeface="Arial Black"/>
              </a:rPr>
              <a:t>und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Neben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57200" y="291132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0" y="8071"/>
                </a:moveTo>
                <a:arcTo wR="10800" hR="10800" stAng="-9921814" swAng="7174013"/>
                <a:lnTo>
                  <a:pt x="10800" y="10800"/>
                </a:lnTo>
                <a:close/>
              </a:path>
              <a:path fill="none" w="21600" h="21600">
                <a:moveTo>
                  <a:pt x="350" y="8071"/>
                </a:moveTo>
                <a:arcTo wR="10800" hR="10800" stAng="-9921814" swAng="717401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7600" y="32670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56480" y="293220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66" y="13465"/>
                </a:moveTo>
                <a:arcTo wR="10800" hR="10800" stAng="857023" swAng="7225223"/>
                <a:lnTo>
                  <a:pt x="10800" y="10800"/>
                </a:lnTo>
                <a:close/>
              </a:path>
              <a:path fill="none" w="21600" h="21600">
                <a:moveTo>
                  <a:pt x="21266" y="13465"/>
                </a:moveTo>
                <a:arcTo wR="10800" hR="10800" stAng="857023" swAng="722522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87880" y="4248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200" y="1260360"/>
            <a:ext cx="36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ist der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Scheitelwinkel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zum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0040" y="199080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sind gleich gro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grpSp>
          <p:nvGrpSpPr>
            <p:cNvPr id="138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sp>
            <p:nvSpPr>
              <p:cNvPr id="139" name=""/>
              <p:cNvSpPr/>
              <p:nvPr/>
            </p:nvSpPr>
            <p:spPr>
              <a:xfrm>
                <a:off x="5943600" y="175572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08680" y="463536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1552320" y="3266640"/>
                <a:ext cx="5182920" cy="1368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2344680" y="2116080"/>
                <a:ext cx="3672000" cy="374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145040" y="389556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6360" y="3664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0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0960" y="558720"/>
            <a:ext cx="7772400" cy="1152720"/>
          </a:xfrm>
          <a:prstGeom prst="rect">
            <a:avLst/>
          </a:prstGeom>
          <a:gradFill rotWithShape="0">
            <a:gsLst>
              <a:gs pos="0">
                <a:srgbClr val="99ff99">
                  <a:alpha val="50196"/>
                </a:srgbClr>
              </a:gs>
              <a:gs pos="100000">
                <a:srgbClr val="0033cc">
                  <a:alpha val="90196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ffff99"/>
                </a:solidFill>
                <a:latin typeface="Arial"/>
              </a:rPr>
              <a:t>Scheitel-</a:t>
            </a:r>
            <a:r>
              <a:rPr b="1" lang="de-AT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AT" sz="4400" spc="-1" strike="noStrike">
                <a:solidFill>
                  <a:srgbClr val="808080"/>
                </a:solidFill>
                <a:latin typeface="Arial"/>
              </a:rPr>
              <a:t>und</a:t>
            </a:r>
            <a:r>
              <a:rPr b="1" lang="de-AT" sz="4400" spc="-1" strike="noStrike">
                <a:solidFill>
                  <a:srgbClr val="0033cc"/>
                </a:solidFill>
                <a:latin typeface="Arial"/>
              </a:rPr>
              <a:t> Nebenwin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83120" y="2914200"/>
            <a:ext cx="209484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56480" y="293220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66" y="13465"/>
                </a:moveTo>
                <a:arcTo wR="10800" hR="10800" stAng="857023" swAng="7225223"/>
                <a:lnTo>
                  <a:pt x="10800" y="10800"/>
                </a:lnTo>
                <a:close/>
              </a:path>
              <a:path fill="none" w="21600" h="21600">
                <a:moveTo>
                  <a:pt x="21266" y="13465"/>
                </a:moveTo>
                <a:arcTo wR="10800" hR="10800" stAng="857023" swAng="722522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57200" y="291132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0" y="8071"/>
                </a:moveTo>
                <a:arcTo wR="10800" hR="10800" stAng="-9921814" swAng="7174013"/>
                <a:lnTo>
                  <a:pt x="10800" y="10800"/>
                </a:lnTo>
                <a:close/>
              </a:path>
              <a:path fill="none" w="21600" h="21600">
                <a:moveTo>
                  <a:pt x="350" y="8071"/>
                </a:moveTo>
                <a:arcTo wR="10800" hR="10800" stAng="-9921814" swAng="717401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59000" y="2921400"/>
            <a:ext cx="2095560" cy="209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73" y="18447"/>
                </a:moveTo>
                <a:arcTo wR="10800" hR="10800" stAng="8095552" swAng="3578608"/>
                <a:lnTo>
                  <a:pt x="10800" y="10800"/>
                </a:lnTo>
                <a:close/>
              </a:path>
              <a:path fill="none" w="21600" h="21600">
                <a:moveTo>
                  <a:pt x="3173" y="18447"/>
                </a:moveTo>
                <a:arcTo wR="10800" hR="10800" stAng="8095552" swAng="3578608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36273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9877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27600" y="32670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87880" y="4248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grpSp>
          <p:nvGrpSpPr>
            <p:cNvPr id="155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sp>
            <p:nvSpPr>
              <p:cNvPr id="156" name=""/>
              <p:cNvSpPr/>
              <p:nvPr/>
            </p:nvSpPr>
            <p:spPr>
              <a:xfrm>
                <a:off x="5943600" y="175572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08680" y="463536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1552320" y="3266640"/>
                <a:ext cx="5182920" cy="1368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2344680" y="2116080"/>
                <a:ext cx="3672000" cy="374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145040" y="389556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6:47:20Z</dcterms:created>
  <dc:creator>Katharina Luksch</dc:creator>
  <dc:description/>
  <dc:language>en-US</dc:language>
  <cp:lastModifiedBy>Katharina Luksch</cp:lastModifiedBy>
  <dcterms:modified xsi:type="dcterms:W3CDTF">2009-11-21T12:24:58Z</dcterms:modified>
  <cp:revision>50</cp:revision>
  <dc:subject/>
  <dc:title>Scheitel- und Nebenwinkel</dc:title>
</cp:coreProperties>
</file>