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6C8F-764A-488F-8E4B-D01A0E2625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5EB9-8716-44F4-881E-95330C247BC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se Präsentation kann zur Einführung der Begriffe  „Scheitel- und Nebenwinkel“ verwende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den Beispielen aus der Umwelt müssen immer gewisse Abstrahierungen  vorgenommen werden, bei einigen Folien wird diesem Umstand Rechnung getragen. Beim praktischen Unterrichtseinsatz wird der Lehrer / die Lehrerin vielleicht nur einige wenige Folien dieser Präsentation auswählen beziehungsweise eigene Ergänzungen vorneh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3E59-CEF3-4F0F-BA7A-32977E6BC62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eitel-und Nebenwinkel:  Alle eingezeichneten Winkel sind auch Parallelwink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EBF1-E1B4-4A3C-AA36-85DEBCFE7FB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nwinkel bei einer Straßenmarkie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003-4DA6-4832-8BBB-DB0FDD5D2608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er der Voraussetzung, dass die Rohre des Geländers als Strecken idealisiert angenommen werden, findet man wiederum Scheitel und Nebenwink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merkung: Die Darstellung der Winkel erfolgt hier nicht in der durch die Fotografie vorgegebenen Perspek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51D5-4709-4D97-A0D6-89372830105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8E40-3A94-4EC6-AFBA-D44FCF6C38C8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den Speichen eines Rades kann man sehr gut Scheitel- und Nebenwinkel erke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e Winkel wird ausgewäh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ser Winkel ist ein Scheitelwinkel: Die Schenkel beider Winkel liegen paarweise auf genau zwei Gerad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er der beiden möglichen Nebenwin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d hier der zweite Nebenwin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78C7-0065-4086-BE89-9726BBC31CA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m Scherengitter zur Absperrung treten diese Winkelarten wieder auf, obwohl dabei eine gewisse Abstraktion (rot-weisse Holzlatte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Strecken) notwendig ist, wie bei den späteren Folien deutlich werden wi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1A0C-C0E0-4E1D-9D06-19A3655E937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reten hier Scheitel-und Nebenwinkel au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rum sind die eingetragenen Winkel im streng mathematischen Sinn keine Scheitel- und Nebenwink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twort: Die beiden Balken des Kreuzes sind keine Geraden, wie es nach der Definition dieser Winkelarten verlangt ist! Die eingezeichneten Winkel sind eigentlich „nur“ Parallelwink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hematisch exakt kann man nur die jetzt (nach den Translationen) eingetragenen Winkel als Scheitel-und Nebenwinkel bezeich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5670-963E-475A-A67C-FFC1D72A8D2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rpretiert oder besser gesagt idealisiert man die Verstrebungen als Geradenteile, dann kann man wohl von Scheitel-und Nebenwinkel sprechen, wenngleich die Einschränkung, die im vorigen Beispiel herausgearbeitet wurde, weiterhin gi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B0C2-9029-4930-AA2B-FE9788D9BCD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er der Bedingung der vorhin getroffenen Idealisierungsvereinbarung gibt es hier beim Geländer ebenfalls Scheitel-und Nebenwink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B704-4792-40B3-95E1-0780D4A85FD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er treten diese Winkeltypen vielfach auf, wenn man die Stäbe als Strecken interpretiert! Zwei Beispiele seien hervorgehob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D17A-19CE-4342-B3B8-604EDC12B6B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Holzteile werden wieder als Strecken interpretiert, dann lassen sich Nebenwinkelpaare finden, allerdings keine Scheitelwink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3B71-4281-4A52-9205-5CA494DAC3D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ächst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355-68CA-4BB1-8479-3666CE28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881-C4B7-4B0E-AEAD-22697993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579-5FC1-4D30-AAF1-9999593C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C4E-FDDE-435E-BFC1-FF41CF8F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1203-0ECD-4F94-81AD-3F8920C5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BE1C-7511-4D46-9FF5-5E11B854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BE99-297E-4F58-90D3-2AD610E2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89A1-0AEB-4A88-8EDC-3E272AB5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A4B7-36CB-47CF-A2A4-E25242E0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2A01-380C-4D0C-ACA2-4EA98FC9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9863-D44F-4D62-83D9-FD257CAF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037-D783-4519-B74B-5A0E278A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39A6-FFCD-432A-BC3D-A4AB6885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0129-49CA-40E3-81B2-F6E36262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3B6F-7DC1-439E-84F4-71695CB7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0137-22D3-42CD-BB97-47750315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95ED-C48F-43AE-BBCD-7BDFFCF2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BCC-D2D2-41AE-A0C1-2218AB3C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7E5-175E-48CE-8E0B-5CA3F9F9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42E-32A0-4784-857B-0FB63FBB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5BE-C096-40BA-BB63-036798DC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62F-D8DB-46D5-8C1B-70363B6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106-DE91-472A-B3A5-44764A1B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7E9-5678-4B62-9A99-B4ED1456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C36A-7A48-4C4B-BF40-84419978EB0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933B-9D47-4462-93D6-2A957C4DF7D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</a:rPr>
              <a:t>Scheitel- und Nebenwinkel </a:t>
            </a:r>
            <a:br>
              <a:rPr sz="4800"/>
            </a:br>
            <a:r>
              <a:rPr b="0" lang="de-DE" sz="4800" spc="-1" strike="noStrike">
                <a:solidFill>
                  <a:srgbClr val="ffffff"/>
                </a:solidFill>
                <a:latin typeface="Arial"/>
              </a:rPr>
              <a:t>in der Umwel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äsentation mit Fot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on AD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rbeitsgemeinschaft didaktische Innovation Geome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685800" y="844560"/>
            <a:ext cx="7772400" cy="516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539640" y="476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 findest du hier Scheitel- oder Nebenwink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ubPieSlice"/>
          <p:cNvSpPr/>
          <p:nvPr/>
        </p:nvSpPr>
        <p:spPr>
          <a:xfrm rot="16791000">
            <a:off x="2865600" y="4260600"/>
            <a:ext cx="1079280" cy="107928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12797" y="21413"/>
                </a:moveTo>
                <a:cubicBezTo>
                  <a:pt x="17902" y="20453"/>
                  <a:pt x="21600" y="15994"/>
                  <a:pt x="21600" y="10800"/>
                </a:cubicBezTo>
                <a:cubicBezTo>
                  <a:pt x="21600" y="7251"/>
                  <a:pt x="19856" y="3929"/>
                  <a:pt x="16936" y="1913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ubPieSlice"/>
          <p:cNvSpPr/>
          <p:nvPr/>
        </p:nvSpPr>
        <p:spPr>
          <a:xfrm rot="19734600">
            <a:off x="4400280" y="4271760"/>
            <a:ext cx="1079280" cy="107928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1589" y="5161"/>
                </a:moveTo>
                <a:cubicBezTo>
                  <a:pt x="549" y="6858"/>
                  <a:pt x="0" y="8809"/>
                  <a:pt x="0" y="10799"/>
                </a:cubicBezTo>
                <a:cubicBezTo>
                  <a:pt x="-1" y="11584"/>
                  <a:pt x="85" y="12367"/>
                  <a:pt x="255" y="13133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ubPieSlice"/>
          <p:cNvSpPr/>
          <p:nvPr/>
        </p:nvSpPr>
        <p:spPr>
          <a:xfrm rot="19734600">
            <a:off x="5571720" y="4276440"/>
            <a:ext cx="1079640" cy="107928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19900" y="16615"/>
                </a:moveTo>
                <a:cubicBezTo>
                  <a:pt x="21010" y="14878"/>
                  <a:pt x="21600" y="1286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46" y="-1"/>
                  <a:pt x="9295" y="78"/>
                  <a:pt x="8559" y="235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ubPieSlice"/>
          <p:cNvSpPr/>
          <p:nvPr/>
        </p:nvSpPr>
        <p:spPr>
          <a:xfrm rot="19734600">
            <a:off x="923400" y="423504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20049" y="16375"/>
                </a:moveTo>
                <a:cubicBezTo>
                  <a:pt x="21063" y="14692"/>
                  <a:pt x="21600" y="12764"/>
                  <a:pt x="21600" y="10800"/>
                </a:cubicBezTo>
                <a:cubicBezTo>
                  <a:pt x="21600" y="7058"/>
                  <a:pt x="19663" y="3584"/>
                  <a:pt x="16482" y="1615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ubPieSlice"/>
          <p:cNvSpPr/>
          <p:nvPr/>
        </p:nvSpPr>
        <p:spPr>
          <a:xfrm rot="16791000">
            <a:off x="922320" y="423468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21470" y="9133"/>
                </a:moveTo>
                <a:cubicBezTo>
                  <a:pt x="20649" y="3876"/>
                  <a:pt x="16121" y="0"/>
                  <a:pt x="10800" y="0"/>
                </a:cubicBezTo>
                <a:cubicBezTo>
                  <a:pt x="10236" y="-1"/>
                  <a:pt x="9673" y="44"/>
                  <a:pt x="9116" y="132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ubPieSlice"/>
          <p:cNvSpPr/>
          <p:nvPr/>
        </p:nvSpPr>
        <p:spPr>
          <a:xfrm rot="16791000">
            <a:off x="5572080" y="428076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7438" y="2280"/>
                </a:moveTo>
                <a:cubicBezTo>
                  <a:pt x="15541" y="802"/>
                  <a:pt x="13204" y="0"/>
                  <a:pt x="10800" y="0"/>
                </a:cubicBezTo>
                <a:cubicBezTo>
                  <a:pt x="10190" y="-1"/>
                  <a:pt x="9581" y="51"/>
                  <a:pt x="8980" y="154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ubPieSlice"/>
          <p:cNvSpPr/>
          <p:nvPr/>
        </p:nvSpPr>
        <p:spPr>
          <a:xfrm rot="19734600">
            <a:off x="2852280" y="426204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8265" y="301"/>
                </a:moveTo>
                <a:cubicBezTo>
                  <a:pt x="5585" y="948"/>
                  <a:pt x="3255" y="2595"/>
                  <a:pt x="1750" y="4905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ubPieSlice"/>
          <p:cNvSpPr/>
          <p:nvPr/>
        </p:nvSpPr>
        <p:spPr>
          <a:xfrm rot="16791000">
            <a:off x="4410000" y="427752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2060" y="4455"/>
                </a:moveTo>
                <a:cubicBezTo>
                  <a:pt x="721" y="6299"/>
                  <a:pt x="0" y="8520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1398" y="21600"/>
                  <a:pt x="11995" y="21550"/>
                  <a:pt x="12585" y="21451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ubPieSlice"/>
          <p:cNvSpPr/>
          <p:nvPr/>
        </p:nvSpPr>
        <p:spPr>
          <a:xfrm rot="16791000">
            <a:off x="928440" y="4238280"/>
            <a:ext cx="1079640" cy="107928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159" y="12647"/>
                </a:moveTo>
                <a:cubicBezTo>
                  <a:pt x="1057" y="17822"/>
                  <a:pt x="5548" y="21600"/>
                  <a:pt x="10800" y="21600"/>
                </a:cubicBezTo>
                <a:cubicBezTo>
                  <a:pt x="11398" y="21599"/>
                  <a:pt x="11995" y="21550"/>
                  <a:pt x="12585" y="21451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ubPieSlice"/>
          <p:cNvSpPr/>
          <p:nvPr/>
        </p:nvSpPr>
        <p:spPr>
          <a:xfrm rot="19734600">
            <a:off x="925200" y="4228920"/>
            <a:ext cx="1079280" cy="107928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1634" y="5086"/>
                </a:moveTo>
                <a:cubicBezTo>
                  <a:pt x="566" y="6800"/>
                  <a:pt x="0" y="8780"/>
                  <a:pt x="0" y="10799"/>
                </a:cubicBezTo>
                <a:cubicBezTo>
                  <a:pt x="-1" y="14562"/>
                  <a:pt x="1958" y="18054"/>
                  <a:pt x="5169" y="20015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5"/>
          <p:cNvSpPr/>
          <p:nvPr/>
        </p:nvSpPr>
        <p:spPr>
          <a:xfrm flipH="1" flipV="1">
            <a:off x="3943080" y="2544480"/>
            <a:ext cx="2189160" cy="227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 flipV="1">
            <a:off x="1442880" y="2232000"/>
            <a:ext cx="46080" cy="3711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1"/>
          <p:cNvSpPr/>
          <p:nvPr/>
        </p:nvSpPr>
        <p:spPr>
          <a:xfrm flipH="1" flipV="1">
            <a:off x="2260080" y="3639600"/>
            <a:ext cx="1132200" cy="1155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2"/>
          <p:cNvSpPr/>
          <p:nvPr/>
        </p:nvSpPr>
        <p:spPr>
          <a:xfrm flipH="1" flipV="1">
            <a:off x="584280" y="4762080"/>
            <a:ext cx="7843680" cy="95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23"/>
          <p:cNvSpPr/>
          <p:nvPr/>
        </p:nvSpPr>
        <p:spPr>
          <a:xfrm flipV="1">
            <a:off x="3732120" y="4806720"/>
            <a:ext cx="1214640" cy="1199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85800" y="844560"/>
            <a:ext cx="7772400" cy="516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5508720" y="47628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s gibt nur Nebenwinkel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39640" y="476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 findest du hier Scheitel- oder Nebenwink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ubPieSlice"/>
          <p:cNvSpPr/>
          <p:nvPr/>
        </p:nvSpPr>
        <p:spPr>
          <a:xfrm rot="19734600">
            <a:off x="1514160" y="3292200"/>
            <a:ext cx="900000" cy="900000"/>
          </a:xfrm>
          <a:custGeom>
            <a:avLst/>
            <a:gdLst>
              <a:gd name="textAreaLeft" fmla="*/ 131760 w 900000"/>
              <a:gd name="textAreaRight" fmla="*/ 768240 w 900000"/>
              <a:gd name="textAreaTop" fmla="*/ 131760 h 900000"/>
              <a:gd name="textAreaBottom" fmla="*/ 768240 h 900000"/>
            </a:gdLst>
            <a:ahLst/>
            <a:rect l="textAreaLeft" t="textAreaTop" r="textAreaRight" b="textAreaBottom"/>
            <a:pathLst>
              <a:path w="21600" h="21600">
                <a:moveTo>
                  <a:pt x="5615" y="20273"/>
                </a:moveTo>
                <a:cubicBezTo>
                  <a:pt x="7204" y="21143"/>
                  <a:pt x="8987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347"/>
                  <a:pt x="21571" y="9896"/>
                  <a:pt x="21515" y="9447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ubPieSlice"/>
          <p:cNvSpPr/>
          <p:nvPr/>
        </p:nvSpPr>
        <p:spPr>
          <a:xfrm rot="16791000">
            <a:off x="1528920" y="3289320"/>
            <a:ext cx="900000" cy="900000"/>
          </a:xfrm>
          <a:custGeom>
            <a:avLst/>
            <a:gdLst>
              <a:gd name="textAreaLeft" fmla="*/ 131760 w 900000"/>
              <a:gd name="textAreaRight" fmla="*/ 768240 w 900000"/>
              <a:gd name="textAreaTop" fmla="*/ 131760 h 900000"/>
              <a:gd name="textAreaBottom" fmla="*/ 768240 h 900000"/>
            </a:gdLst>
            <a:ahLst/>
            <a:rect l="textAreaLeft" t="textAreaTop" r="textAreaRight" b="textAreaBottom"/>
            <a:pathLst>
              <a:path w="21600" h="21600">
                <a:moveTo>
                  <a:pt x="19241" y="17536"/>
                </a:moveTo>
                <a:cubicBezTo>
                  <a:pt x="20768" y="15623"/>
                  <a:pt x="21600" y="13247"/>
                  <a:pt x="21600" y="10800"/>
                </a:cubicBezTo>
                <a:cubicBezTo>
                  <a:pt x="21600" y="9980"/>
                  <a:pt x="21506" y="9162"/>
                  <a:pt x="21321" y="8363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5"/>
          <p:cNvSpPr/>
          <p:nvPr/>
        </p:nvSpPr>
        <p:spPr>
          <a:xfrm flipH="1" flipV="1">
            <a:off x="1950840" y="2452320"/>
            <a:ext cx="21960" cy="2343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6"/>
          <p:cNvSpPr/>
          <p:nvPr/>
        </p:nvSpPr>
        <p:spPr>
          <a:xfrm flipH="1">
            <a:off x="1962000" y="3121200"/>
            <a:ext cx="717840" cy="6318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Oval 17"/>
          <p:cNvSpPr/>
          <p:nvPr/>
        </p:nvSpPr>
        <p:spPr>
          <a:xfrm>
            <a:off x="1409760" y="2114640"/>
            <a:ext cx="1763640" cy="320652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685800" y="844560"/>
            <a:ext cx="7772400" cy="516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4932360" y="404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eitel- und Nebenwink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ubPieSlice"/>
          <p:cNvSpPr/>
          <p:nvPr/>
        </p:nvSpPr>
        <p:spPr>
          <a:xfrm rot="11913600">
            <a:off x="5481360" y="2134800"/>
            <a:ext cx="1027080" cy="1027080"/>
          </a:xfrm>
          <a:custGeom>
            <a:avLst/>
            <a:gdLst>
              <a:gd name="textAreaLeft" fmla="*/ 150120 w 1027080"/>
              <a:gd name="textAreaRight" fmla="*/ 876960 w 1027080"/>
              <a:gd name="textAreaTop" fmla="*/ 150120 h 1027080"/>
              <a:gd name="textAreaBottom" fmla="*/ 876960 h 1027080"/>
            </a:gdLst>
            <a:ahLst/>
            <a:rect l="textAreaLeft" t="textAreaTop" r="textAreaRight" b="textAreaBottom"/>
            <a:pathLst>
              <a:path w="21600" h="21600">
                <a:moveTo>
                  <a:pt x="14326" y="21008"/>
                </a:moveTo>
                <a:cubicBezTo>
                  <a:pt x="17980" y="19745"/>
                  <a:pt x="20681" y="16625"/>
                  <a:pt x="21407" y="12828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ubPieSlice"/>
          <p:cNvSpPr/>
          <p:nvPr/>
        </p:nvSpPr>
        <p:spPr>
          <a:xfrm rot="16791000">
            <a:off x="5455440" y="2121480"/>
            <a:ext cx="1019160" cy="1011240"/>
          </a:xfrm>
          <a:custGeom>
            <a:avLst/>
            <a:gdLst>
              <a:gd name="textAreaLeft" fmla="*/ 149040 w 1019160"/>
              <a:gd name="textAreaRight" fmla="*/ 870120 w 1019160"/>
              <a:gd name="textAreaTop" fmla="*/ 147960 h 1011240"/>
              <a:gd name="textAreaBottom" fmla="*/ 863280 h 1011240"/>
            </a:gdLst>
            <a:ahLst/>
            <a:rect l="textAreaLeft" t="textAreaTop" r="textAreaRight" b="textAreaBottom"/>
            <a:pathLst>
              <a:path w="21600" h="21600">
                <a:moveTo>
                  <a:pt x="7147" y="20963"/>
                </a:moveTo>
                <a:cubicBezTo>
                  <a:pt x="8319" y="21384"/>
                  <a:pt x="95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126"/>
                  <a:pt x="21537" y="9455"/>
                  <a:pt x="21412" y="8793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ubPieSlice"/>
          <p:cNvSpPr/>
          <p:nvPr/>
        </p:nvSpPr>
        <p:spPr>
          <a:xfrm rot="16791000">
            <a:off x="5523480" y="2094120"/>
            <a:ext cx="988920" cy="1038240"/>
          </a:xfrm>
          <a:custGeom>
            <a:avLst/>
            <a:gdLst>
              <a:gd name="textAreaLeft" fmla="*/ 144720 w 988920"/>
              <a:gd name="textAreaRight" fmla="*/ 844200 w 988920"/>
              <a:gd name="textAreaTop" fmla="*/ 151920 h 1038240"/>
              <a:gd name="textAreaBottom" fmla="*/ 886320 h 1038240"/>
            </a:gdLst>
            <a:ahLst/>
            <a:rect l="textAreaLeft" t="textAreaTop" r="textAreaRight" b="textAreaBottom"/>
            <a:pathLst>
              <a:path w="21600" h="21600">
                <a:moveTo>
                  <a:pt x="14807" y="770"/>
                </a:moveTo>
                <a:cubicBezTo>
                  <a:pt x="13532" y="261"/>
                  <a:pt x="12172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1509"/>
                  <a:pt x="69" y="12216"/>
                  <a:pt x="208" y="12911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ubPieSlice"/>
          <p:cNvSpPr/>
          <p:nvPr/>
        </p:nvSpPr>
        <p:spPr>
          <a:xfrm rot="19734600">
            <a:off x="5528880" y="2146320"/>
            <a:ext cx="984240" cy="1008000"/>
          </a:xfrm>
          <a:custGeom>
            <a:avLst/>
            <a:gdLst>
              <a:gd name="textAreaLeft" fmla="*/ 144000 w 984240"/>
              <a:gd name="textAreaRight" fmla="*/ 840240 w 984240"/>
              <a:gd name="textAreaTop" fmla="*/ 147600 h 1008000"/>
              <a:gd name="textAreaBottom" fmla="*/ 860400 h 1008000"/>
            </a:gdLst>
            <a:ahLst/>
            <a:rect l="textAreaLeft" t="textAreaTop" r="textAreaRight" b="textAreaBottom"/>
            <a:pathLst>
              <a:path w="21600" h="21600">
                <a:moveTo>
                  <a:pt x="5595" y="20262"/>
                </a:moveTo>
                <a:cubicBezTo>
                  <a:pt x="7189" y="21140"/>
                  <a:pt x="8980" y="21600"/>
                  <a:pt x="10800" y="21600"/>
                </a:cubicBezTo>
                <a:cubicBezTo>
                  <a:pt x="12886" y="21599"/>
                  <a:pt x="14927" y="20995"/>
                  <a:pt x="16677" y="19860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4"/>
          <p:cNvSpPr/>
          <p:nvPr/>
        </p:nvSpPr>
        <p:spPr>
          <a:xfrm>
            <a:off x="4815000" y="1967040"/>
            <a:ext cx="2808000" cy="158436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5951520" y="1557360"/>
            <a:ext cx="71280" cy="180036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5950080" y="1378080"/>
            <a:ext cx="98280" cy="2349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572000" y="1822320"/>
            <a:ext cx="3460680" cy="19400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3962520" y="3036960"/>
            <a:ext cx="13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900000" y="692280"/>
            <a:ext cx="73152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740640" y="24444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ebenwink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ubPieSlice"/>
          <p:cNvSpPr/>
          <p:nvPr/>
        </p:nvSpPr>
        <p:spPr>
          <a:xfrm rot="19734600">
            <a:off x="2616120" y="144576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7031" y="20920"/>
                </a:moveTo>
                <a:cubicBezTo>
                  <a:pt x="8236" y="21370"/>
                  <a:pt x="9513" y="21600"/>
                  <a:pt x="10800" y="21600"/>
                </a:cubicBezTo>
                <a:cubicBezTo>
                  <a:pt x="10891" y="21599"/>
                  <a:pt x="10983" y="21598"/>
                  <a:pt x="11075" y="21596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ubPieSlice"/>
          <p:cNvSpPr/>
          <p:nvPr/>
        </p:nvSpPr>
        <p:spPr>
          <a:xfrm rot="11913600">
            <a:off x="2615760" y="144612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16098" y="20211"/>
                </a:moveTo>
                <a:cubicBezTo>
                  <a:pt x="17297" y="19536"/>
                  <a:pt x="18356" y="18638"/>
                  <a:pt x="19218" y="17565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ubPieSlice"/>
          <p:cNvSpPr/>
          <p:nvPr/>
        </p:nvSpPr>
        <p:spPr>
          <a:xfrm rot="16791000">
            <a:off x="2615760" y="144612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2907" y="18172"/>
                </a:moveTo>
                <a:cubicBezTo>
                  <a:pt x="4950" y="20358"/>
                  <a:pt x="7807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454"/>
                  <a:pt x="21348" y="8120"/>
                  <a:pt x="20858" y="6866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614680" y="760320"/>
            <a:ext cx="2520720" cy="3889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443400" y="509760"/>
            <a:ext cx="863640" cy="4392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3719520" y="2444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eitelwinkel 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ubPieSlice"/>
          <p:cNvSpPr/>
          <p:nvPr/>
        </p:nvSpPr>
        <p:spPr>
          <a:xfrm rot="16791000">
            <a:off x="2615760" y="144612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18680" y="3415"/>
                </a:moveTo>
                <a:cubicBezTo>
                  <a:pt x="16638" y="1236"/>
                  <a:pt x="13786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2008"/>
                  <a:pt x="202" y="13207"/>
                  <a:pt x="599" y="14348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865080" y="2444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hrradspei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914400" y="685800"/>
            <a:ext cx="73152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691320" y="28908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ebenwink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3548160" y="28908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eitelwinkel 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ubPieSlice"/>
          <p:cNvSpPr/>
          <p:nvPr/>
        </p:nvSpPr>
        <p:spPr>
          <a:xfrm rot="19734600">
            <a:off x="3200040" y="297612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28" y="12459"/>
                </a:moveTo>
                <a:cubicBezTo>
                  <a:pt x="946" y="17720"/>
                  <a:pt x="5476" y="21600"/>
                  <a:pt x="10800" y="21600"/>
                </a:cubicBezTo>
                <a:cubicBezTo>
                  <a:pt x="11906" y="21599"/>
                  <a:pt x="13005" y="21430"/>
                  <a:pt x="14060" y="21096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ubPieSlice"/>
          <p:cNvSpPr/>
          <p:nvPr/>
        </p:nvSpPr>
        <p:spPr>
          <a:xfrm rot="11913600">
            <a:off x="3200040" y="295524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4857" y="19818"/>
                </a:moveTo>
                <a:cubicBezTo>
                  <a:pt x="6621" y="20980"/>
                  <a:pt x="8687" y="21600"/>
                  <a:pt x="10800" y="21600"/>
                </a:cubicBezTo>
                <a:cubicBezTo>
                  <a:pt x="15333" y="21599"/>
                  <a:pt x="19385" y="18768"/>
                  <a:pt x="20942" y="14510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ubPieSlice"/>
          <p:cNvSpPr/>
          <p:nvPr/>
        </p:nvSpPr>
        <p:spPr>
          <a:xfrm rot="16791000">
            <a:off x="3206520" y="2964960"/>
            <a:ext cx="1079640" cy="107928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5317" y="20105"/>
                </a:moveTo>
                <a:cubicBezTo>
                  <a:pt x="6979" y="21083"/>
                  <a:pt x="8871" y="21600"/>
                  <a:pt x="10800" y="21600"/>
                </a:cubicBezTo>
                <a:cubicBezTo>
                  <a:pt x="13865" y="21599"/>
                  <a:pt x="16786" y="20297"/>
                  <a:pt x="18835" y="18016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ubPieSlice"/>
          <p:cNvSpPr/>
          <p:nvPr/>
        </p:nvSpPr>
        <p:spPr>
          <a:xfrm rot="16791000">
            <a:off x="3187440" y="2984040"/>
            <a:ext cx="1079640" cy="107928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16419" y="1576"/>
                </a:moveTo>
                <a:cubicBezTo>
                  <a:pt x="14726" y="545"/>
                  <a:pt x="12782" y="0"/>
                  <a:pt x="10800" y="0"/>
                </a:cubicBezTo>
                <a:cubicBezTo>
                  <a:pt x="7659" y="-1"/>
                  <a:pt x="4674" y="1367"/>
                  <a:pt x="2622" y="3745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063960" y="2944800"/>
            <a:ext cx="1379520" cy="11714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8"/>
          <p:cNvSpPr/>
          <p:nvPr/>
        </p:nvSpPr>
        <p:spPr>
          <a:xfrm flipH="1">
            <a:off x="3028680" y="3108240"/>
            <a:ext cx="1190520" cy="9921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771480" y="28908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bsperr-Scherengi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685800" y="844560"/>
            <a:ext cx="7772400" cy="516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899400" y="4208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ebenwink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867120" y="4208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ind das Scheitelwinkel 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ubPieSlice"/>
          <p:cNvSpPr/>
          <p:nvPr/>
        </p:nvSpPr>
        <p:spPr>
          <a:xfrm rot="19734600">
            <a:off x="3403440" y="2754000"/>
            <a:ext cx="2519640" cy="2519280"/>
          </a:xfrm>
          <a:custGeom>
            <a:avLst/>
            <a:gdLst>
              <a:gd name="textAreaLeft" fmla="*/ 369000 w 2519640"/>
              <a:gd name="textAreaRight" fmla="*/ 2150640 w 251964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1304" y="15945"/>
                </a:moveTo>
                <a:cubicBezTo>
                  <a:pt x="3182" y="19410"/>
                  <a:pt x="6797" y="21577"/>
                  <a:pt x="10737" y="21599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ubPieSlice"/>
          <p:cNvSpPr/>
          <p:nvPr/>
        </p:nvSpPr>
        <p:spPr>
          <a:xfrm rot="11913600">
            <a:off x="3404880" y="145908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9143" y="21472"/>
                </a:moveTo>
                <a:cubicBezTo>
                  <a:pt x="9691" y="21557"/>
                  <a:pt x="10245" y="21600"/>
                  <a:pt x="10800" y="21600"/>
                </a:cubicBezTo>
                <a:cubicBezTo>
                  <a:pt x="13983" y="21599"/>
                  <a:pt x="17004" y="20195"/>
                  <a:pt x="19056" y="17762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ubPieSlice"/>
          <p:cNvSpPr/>
          <p:nvPr/>
        </p:nvSpPr>
        <p:spPr>
          <a:xfrm rot="16791000">
            <a:off x="3784320" y="208764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2556" y="17778"/>
                </a:moveTo>
                <a:cubicBezTo>
                  <a:pt x="4609" y="20202"/>
                  <a:pt x="7624" y="21600"/>
                  <a:pt x="10800" y="21600"/>
                </a:cubicBezTo>
                <a:cubicBezTo>
                  <a:pt x="15408" y="21599"/>
                  <a:pt x="19508" y="18675"/>
                  <a:pt x="21010" y="14319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ubPieSlice"/>
          <p:cNvSpPr/>
          <p:nvPr/>
        </p:nvSpPr>
        <p:spPr>
          <a:xfrm rot="16791000">
            <a:off x="3028680" y="216864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19091" y="3880"/>
                </a:moveTo>
                <a:cubicBezTo>
                  <a:pt x="17039" y="1421"/>
                  <a:pt x="14002" y="0"/>
                  <a:pt x="10800" y="0"/>
                </a:cubicBezTo>
                <a:cubicBezTo>
                  <a:pt x="6314" y="-1"/>
                  <a:pt x="2295" y="2772"/>
                  <a:pt x="703" y="6966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650880" y="4208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dreaskreu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96296E-006 L -0.04028 0.09815 E">
                                      <p:cBhvr>
                                        <p:cTn id="62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0.00139 0.18796 E">
                                      <p:cBhvr>
                                        <p:cTn id="6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0.04167 0.08426 E">
                                      <p:cBhvr>
                                        <p:cTn id="66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685800" y="844560"/>
            <a:ext cx="7772400" cy="516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020000" y="3985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ebenwink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3922560" y="3985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eitelwinkel 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ubPieSlice"/>
          <p:cNvSpPr/>
          <p:nvPr/>
        </p:nvSpPr>
        <p:spPr>
          <a:xfrm rot="19734600">
            <a:off x="3851280" y="1212480"/>
            <a:ext cx="1440000" cy="1440000"/>
          </a:xfrm>
          <a:custGeom>
            <a:avLst/>
            <a:gdLst>
              <a:gd name="textAreaLeft" fmla="*/ 210600 w 1440000"/>
              <a:gd name="textAreaRight" fmla="*/ 1229400 w 144000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46" y="9794"/>
                </a:moveTo>
                <a:cubicBezTo>
                  <a:pt x="15" y="10128"/>
                  <a:pt x="0" y="1046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2793" y="21600"/>
                  <a:pt x="14747" y="21048"/>
                  <a:pt x="16446" y="20006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ubPieSlice"/>
          <p:cNvSpPr/>
          <p:nvPr/>
        </p:nvSpPr>
        <p:spPr>
          <a:xfrm rot="11913600">
            <a:off x="3850920" y="1198440"/>
            <a:ext cx="1440000" cy="1440000"/>
          </a:xfrm>
          <a:custGeom>
            <a:avLst/>
            <a:gdLst>
              <a:gd name="textAreaLeft" fmla="*/ 210600 w 1440000"/>
              <a:gd name="textAreaRight" fmla="*/ 1229400 w 144000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3062" y="18335"/>
                </a:moveTo>
                <a:cubicBezTo>
                  <a:pt x="5095" y="20422"/>
                  <a:pt x="7886" y="21600"/>
                  <a:pt x="10800" y="21600"/>
                </a:cubicBezTo>
                <a:cubicBezTo>
                  <a:pt x="16091" y="21599"/>
                  <a:pt x="20603" y="17766"/>
                  <a:pt x="21458" y="12544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ubPieSlice"/>
          <p:cNvSpPr/>
          <p:nvPr/>
        </p:nvSpPr>
        <p:spPr>
          <a:xfrm rot="16791000">
            <a:off x="3850920" y="1206000"/>
            <a:ext cx="1440000" cy="1440000"/>
          </a:xfrm>
          <a:custGeom>
            <a:avLst/>
            <a:gdLst>
              <a:gd name="textAreaLeft" fmla="*/ 210600 w 1440000"/>
              <a:gd name="textAreaRight" fmla="*/ 1229400 w 144000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7582" y="21109"/>
                </a:moveTo>
                <a:cubicBezTo>
                  <a:pt x="8624" y="21434"/>
                  <a:pt x="9708" y="21600"/>
                  <a:pt x="10800" y="21600"/>
                </a:cubicBezTo>
                <a:cubicBezTo>
                  <a:pt x="13057" y="21599"/>
                  <a:pt x="15258" y="20892"/>
                  <a:pt x="17093" y="19577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ubPieSlice"/>
          <p:cNvSpPr/>
          <p:nvPr/>
        </p:nvSpPr>
        <p:spPr>
          <a:xfrm rot="16791000">
            <a:off x="3850920" y="1212480"/>
            <a:ext cx="1440000" cy="1440000"/>
          </a:xfrm>
          <a:custGeom>
            <a:avLst/>
            <a:gdLst>
              <a:gd name="textAreaLeft" fmla="*/ 210600 w 1440000"/>
              <a:gd name="textAreaRight" fmla="*/ 1229400 w 144000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14359" y="603"/>
                </a:moveTo>
                <a:cubicBezTo>
                  <a:pt x="13215" y="204"/>
                  <a:pt x="12012" y="0"/>
                  <a:pt x="10800" y="0"/>
                </a:cubicBezTo>
                <a:cubicBezTo>
                  <a:pt x="8652" y="-1"/>
                  <a:pt x="6554" y="640"/>
                  <a:pt x="4772" y="1838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7"/>
          <p:cNvSpPr/>
          <p:nvPr/>
        </p:nvSpPr>
        <p:spPr>
          <a:xfrm flipH="1">
            <a:off x="3060720" y="1189080"/>
            <a:ext cx="3021120" cy="1455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8"/>
          <p:cNvSpPr/>
          <p:nvPr/>
        </p:nvSpPr>
        <p:spPr>
          <a:xfrm>
            <a:off x="3176640" y="1187280"/>
            <a:ext cx="2982960" cy="1576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650880" y="3985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tainerkr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685800" y="844560"/>
            <a:ext cx="7772400" cy="516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020000" y="47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ebenwink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22560" y="47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eitelwinkel 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ubPieSlice"/>
          <p:cNvSpPr/>
          <p:nvPr/>
        </p:nvSpPr>
        <p:spPr>
          <a:xfrm rot="19734600">
            <a:off x="743040" y="175536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5734" y="20338"/>
                </a:moveTo>
                <a:cubicBezTo>
                  <a:pt x="7294" y="21166"/>
                  <a:pt x="9033" y="21600"/>
                  <a:pt x="10800" y="21600"/>
                </a:cubicBezTo>
                <a:cubicBezTo>
                  <a:pt x="14087" y="21599"/>
                  <a:pt x="17195" y="20102"/>
                  <a:pt x="19244" y="17532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ubPieSlice"/>
          <p:cNvSpPr/>
          <p:nvPr/>
        </p:nvSpPr>
        <p:spPr>
          <a:xfrm rot="11913600">
            <a:off x="720360" y="176544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14688" y="20875"/>
                </a:moveTo>
                <a:cubicBezTo>
                  <a:pt x="18853" y="19268"/>
                  <a:pt x="21600" y="15264"/>
                  <a:pt x="21600" y="10800"/>
                </a:cubicBezTo>
                <a:cubicBezTo>
                  <a:pt x="21600" y="10157"/>
                  <a:pt x="21542" y="9516"/>
                  <a:pt x="21428" y="8884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ubPieSlice"/>
          <p:cNvSpPr/>
          <p:nvPr/>
        </p:nvSpPr>
        <p:spPr>
          <a:xfrm rot="16791000">
            <a:off x="753840" y="175428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11489" y="21577"/>
                </a:moveTo>
                <a:cubicBezTo>
                  <a:pt x="17174" y="21214"/>
                  <a:pt x="21600" y="16497"/>
                  <a:pt x="21600" y="10800"/>
                </a:cubicBezTo>
                <a:cubicBezTo>
                  <a:pt x="21600" y="9999"/>
                  <a:pt x="21511" y="9201"/>
                  <a:pt x="21334" y="8420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ubPieSlice"/>
          <p:cNvSpPr/>
          <p:nvPr/>
        </p:nvSpPr>
        <p:spPr>
          <a:xfrm rot="16791000">
            <a:off x="720360" y="1782720"/>
            <a:ext cx="2519280" cy="251928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368640 h 2519280"/>
              <a:gd name="textAreaBottom" fmla="*/ 2150640 h 2519280"/>
            </a:gdLst>
            <a:ahLst/>
            <a:rect l="textAreaLeft" t="textAreaTop" r="textAreaRight" b="textAreaBottom"/>
            <a:pathLst>
              <a:path w="21600" h="21600">
                <a:moveTo>
                  <a:pt x="10451" y="5"/>
                </a:moveTo>
                <a:cubicBezTo>
                  <a:pt x="4625" y="193"/>
                  <a:pt x="0" y="4971"/>
                  <a:pt x="0" y="10799"/>
                </a:cubicBezTo>
                <a:cubicBezTo>
                  <a:pt x="-1" y="11578"/>
                  <a:pt x="84" y="12355"/>
                  <a:pt x="251" y="13115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453960" y="2832120"/>
            <a:ext cx="4835520" cy="596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1925640" y="1654200"/>
            <a:ext cx="179280" cy="3732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85800" y="844560"/>
            <a:ext cx="7772400" cy="516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85800" y="844560"/>
            <a:ext cx="7772400" cy="516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7020000" y="40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ebenwink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922560" y="40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eitelwinkel 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ubPieSlice"/>
          <p:cNvSpPr/>
          <p:nvPr/>
        </p:nvSpPr>
        <p:spPr>
          <a:xfrm rot="19734600">
            <a:off x="3492000" y="349056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44" y="11782"/>
                </a:moveTo>
                <a:cubicBezTo>
                  <a:pt x="366" y="15307"/>
                  <a:pt x="2395" y="18450"/>
                  <a:pt x="5473" y="20195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ubPieSlice"/>
          <p:cNvSpPr/>
          <p:nvPr/>
        </p:nvSpPr>
        <p:spPr>
          <a:xfrm rot="11913600">
            <a:off x="4857840" y="2493720"/>
            <a:ext cx="1079280" cy="107928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11460" y="21579"/>
                </a:moveTo>
                <a:cubicBezTo>
                  <a:pt x="17157" y="21230"/>
                  <a:pt x="21600" y="16508"/>
                  <a:pt x="21600" y="10800"/>
                </a:cubicBezTo>
                <a:cubicBezTo>
                  <a:pt x="21600" y="10438"/>
                  <a:pt x="21581" y="10077"/>
                  <a:pt x="21545" y="9717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ubPieSlice"/>
          <p:cNvSpPr/>
          <p:nvPr/>
        </p:nvSpPr>
        <p:spPr>
          <a:xfrm rot="16791000">
            <a:off x="4871880" y="2482560"/>
            <a:ext cx="1079280" cy="107964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0561" y="21597"/>
                </a:moveTo>
                <a:cubicBezTo>
                  <a:pt x="10641" y="21599"/>
                  <a:pt x="10720" y="21600"/>
                  <a:pt x="10800" y="21600"/>
                </a:cubicBezTo>
                <a:cubicBezTo>
                  <a:pt x="16530" y="21599"/>
                  <a:pt x="21263" y="17123"/>
                  <a:pt x="21583" y="11402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4043520" y="2841480"/>
            <a:ext cx="0" cy="1798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ubPieSlice"/>
          <p:cNvSpPr/>
          <p:nvPr/>
        </p:nvSpPr>
        <p:spPr>
          <a:xfrm rot="16791000">
            <a:off x="4857480" y="2480760"/>
            <a:ext cx="1079640" cy="107928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11190" y="7"/>
                </a:moveTo>
                <a:cubicBezTo>
                  <a:pt x="11060" y="2"/>
                  <a:pt x="10930" y="0"/>
                  <a:pt x="10800" y="0"/>
                </a:cubicBezTo>
                <a:cubicBezTo>
                  <a:pt x="5212" y="-1"/>
                  <a:pt x="547" y="4262"/>
                  <a:pt x="43" y="9827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ubPieSlice"/>
          <p:cNvSpPr/>
          <p:nvPr/>
        </p:nvSpPr>
        <p:spPr>
          <a:xfrm rot="19734600">
            <a:off x="4873320" y="2477880"/>
            <a:ext cx="1079280" cy="107928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2958" y="18225"/>
                </a:moveTo>
                <a:cubicBezTo>
                  <a:pt x="4997" y="20379"/>
                  <a:pt x="7833" y="21600"/>
                  <a:pt x="10800" y="21600"/>
                </a:cubicBezTo>
                <a:cubicBezTo>
                  <a:pt x="13843" y="21599"/>
                  <a:pt x="16745" y="20315"/>
                  <a:pt x="18792" y="18063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21"/>
          <p:cNvSpPr/>
          <p:nvPr/>
        </p:nvSpPr>
        <p:spPr>
          <a:xfrm flipH="1">
            <a:off x="5133600" y="1762200"/>
            <a:ext cx="617400" cy="2217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4165560" y="2782800"/>
            <a:ext cx="1962360" cy="376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ubPieSlice"/>
          <p:cNvSpPr/>
          <p:nvPr/>
        </p:nvSpPr>
        <p:spPr>
          <a:xfrm rot="16791000">
            <a:off x="3492360" y="347256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21440" y="8949"/>
                </a:moveTo>
                <a:cubicBezTo>
                  <a:pt x="20540" y="3776"/>
                  <a:pt x="16050" y="0"/>
                  <a:pt x="10800" y="0"/>
                </a:cubicBezTo>
                <a:cubicBezTo>
                  <a:pt x="7750" y="-1"/>
                  <a:pt x="4842" y="1289"/>
                  <a:pt x="2795" y="3549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3399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8"/>
          <p:cNvSpPr/>
          <p:nvPr/>
        </p:nvSpPr>
        <p:spPr>
          <a:xfrm flipV="1">
            <a:off x="2955960" y="4024080"/>
            <a:ext cx="1057320" cy="801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685800" y="844560"/>
            <a:ext cx="7772400" cy="516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5508720" y="47628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s gibt nur Nebenwinkel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539640" y="476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 findest du hier Scheitel- oder Nebenwink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ubPieSlice"/>
          <p:cNvSpPr/>
          <p:nvPr/>
        </p:nvSpPr>
        <p:spPr>
          <a:xfrm rot="16791000">
            <a:off x="4271760" y="1628280"/>
            <a:ext cx="1079640" cy="107928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6958" y="706"/>
                </a:moveTo>
                <a:cubicBezTo>
                  <a:pt x="2768" y="2300"/>
                  <a:pt x="0" y="6317"/>
                  <a:pt x="0" y="10799"/>
                </a:cubicBezTo>
                <a:cubicBezTo>
                  <a:pt x="-1" y="11497"/>
                  <a:pt x="67" y="12194"/>
                  <a:pt x="201" y="12879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ubPieSlice"/>
          <p:cNvSpPr/>
          <p:nvPr/>
        </p:nvSpPr>
        <p:spPr>
          <a:xfrm rot="19734600">
            <a:off x="6900480" y="1056960"/>
            <a:ext cx="1079640" cy="107928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6390" y="20659"/>
                </a:moveTo>
                <a:cubicBezTo>
                  <a:pt x="7778" y="21279"/>
                  <a:pt x="9280" y="21600"/>
                  <a:pt x="10800" y="21600"/>
                </a:cubicBezTo>
                <a:cubicBezTo>
                  <a:pt x="15561" y="21599"/>
                  <a:pt x="19761" y="18481"/>
                  <a:pt x="21138" y="13923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 flipH="1" flipV="1">
            <a:off x="7404120" y="1612800"/>
            <a:ext cx="209520" cy="133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ubPieSlice"/>
          <p:cNvSpPr/>
          <p:nvPr/>
        </p:nvSpPr>
        <p:spPr>
          <a:xfrm rot="19734600">
            <a:off x="4292280" y="162828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5434" y="20173"/>
                </a:moveTo>
                <a:cubicBezTo>
                  <a:pt x="7068" y="21108"/>
                  <a:pt x="8917" y="21600"/>
                  <a:pt x="10800" y="21600"/>
                </a:cubicBezTo>
                <a:cubicBezTo>
                  <a:pt x="15561" y="21599"/>
                  <a:pt x="19761" y="18481"/>
                  <a:pt x="21138" y="13923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ubPieSlice"/>
          <p:cNvSpPr/>
          <p:nvPr/>
        </p:nvSpPr>
        <p:spPr>
          <a:xfrm rot="19734600">
            <a:off x="1047240" y="2292120"/>
            <a:ext cx="1079640" cy="107928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7037" y="20923"/>
                </a:moveTo>
                <a:cubicBezTo>
                  <a:pt x="8241" y="21370"/>
                  <a:pt x="9515" y="21600"/>
                  <a:pt x="10800" y="21600"/>
                </a:cubicBezTo>
                <a:cubicBezTo>
                  <a:pt x="15181" y="21599"/>
                  <a:pt x="19128" y="18952"/>
                  <a:pt x="20791" y="14899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 flipH="1" flipV="1">
            <a:off x="4827600" y="2165040"/>
            <a:ext cx="9360" cy="1320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ubPieSlice"/>
          <p:cNvSpPr/>
          <p:nvPr/>
        </p:nvSpPr>
        <p:spPr>
          <a:xfrm rot="16791000">
            <a:off x="1036440" y="2287080"/>
            <a:ext cx="1079640" cy="107928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6564" y="865"/>
                </a:moveTo>
                <a:cubicBezTo>
                  <a:pt x="2583" y="2562"/>
                  <a:pt x="0" y="6472"/>
                  <a:pt x="0" y="10799"/>
                </a:cubicBezTo>
                <a:cubicBezTo>
                  <a:pt x="-1" y="12058"/>
                  <a:pt x="219" y="13306"/>
                  <a:pt x="649" y="14488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ubPieSlice"/>
          <p:cNvSpPr/>
          <p:nvPr/>
        </p:nvSpPr>
        <p:spPr>
          <a:xfrm rot="16791000">
            <a:off x="6860880" y="1069560"/>
            <a:ext cx="1079640" cy="107928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6958" y="706"/>
                </a:moveTo>
                <a:cubicBezTo>
                  <a:pt x="2768" y="2300"/>
                  <a:pt x="0" y="6317"/>
                  <a:pt x="0" y="10799"/>
                </a:cubicBezTo>
                <a:cubicBezTo>
                  <a:pt x="-1" y="12042"/>
                  <a:pt x="214" y="13275"/>
                  <a:pt x="633" y="14444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 flipH="1" flipV="1">
            <a:off x="1564920" y="2825280"/>
            <a:ext cx="276120" cy="1319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H="1">
            <a:off x="793440" y="1409760"/>
            <a:ext cx="7404120" cy="1601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85800" y="844560"/>
            <a:ext cx="7772400" cy="516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238480" y="365040"/>
            <a:ext cx="63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o sind da Neben- und Scheitelwink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0:19:16Z</dcterms:created>
  <dc:creator>ADI Thomas Müller</dc:creator>
  <dc:description/>
  <dc:language>en-US</dc:language>
  <cp:lastModifiedBy>ThomasM</cp:lastModifiedBy>
  <dcterms:modified xsi:type="dcterms:W3CDTF">2010-05-31T05:47:10Z</dcterms:modified>
  <cp:revision>86</cp:revision>
  <dc:subject>Präsentation mit Fotos</dc:subject>
  <dc:title>Scheitel-und Nebenwinkel in der Umwelt</dc:title>
</cp:coreProperties>
</file>