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4F89-5E03-4239-8C53-9488E8453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DCDD-D5DE-41C2-B437-23628B1AF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A3A6-6B06-4CA6-8EBF-2A7491E7B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A614-FD4E-4FC6-B604-EF26F67ED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8CB5-4B1B-48CC-A7BE-39F167E69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8201-14C2-4FCC-811C-852E7FCAE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87C8-881D-4369-94E5-53C469B60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4B1E-D31E-4D04-95E7-397DA741D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E51A-A598-4C01-875E-B8C3015D4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5C64-D38E-4731-8473-E506EFD4A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9C11-5926-436A-9F51-3C42DD0A1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4AE8-D5E8-4719-A526-E4279885A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14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F17E-729C-4FEC-88E3-C336D4E0A700}" type="slidenum">
              <a:rPr b="1" lang="en-US" sz="14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40760" y="677880"/>
            <a:ext cx="507960" cy="284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6200000">
            <a:off x="-497520" y="1729440"/>
            <a:ext cx="2492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ff3300"/>
                </a:solidFill>
                <a:latin typeface="Arial Black"/>
              </a:rPr>
              <a:t>Begrif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9640" y="450720"/>
            <a:ext cx="5348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ffffff"/>
                </a:solidFill>
                <a:latin typeface="Arial Black"/>
              </a:rPr>
              <a:t>rund um den </a:t>
            </a:r>
            <a:r>
              <a:rPr b="1" lang="de-AT" sz="4000" spc="-1" strike="noStrike">
                <a:solidFill>
                  <a:srgbClr val="ff3300"/>
                </a:solidFill>
                <a:latin typeface="Arial Black"/>
              </a:rPr>
              <a:t>Kr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grpSp>
          <p:nvGrpSpPr>
            <p:cNvPr id="43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sp>
            <p:nvSpPr>
              <p:cNvPr id="44" name=""/>
              <p:cNvSpPr/>
              <p:nvPr/>
            </p:nvSpPr>
            <p:spPr>
              <a:xfrm>
                <a:off x="2536920" y="1924200"/>
                <a:ext cx="4032000" cy="4032000"/>
              </a:xfrm>
              <a:prstGeom prst="ellipse">
                <a:avLst/>
              </a:prstGeom>
              <a:solidFill>
                <a:srgbClr val="339966">
                  <a:alpha val="6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18000" y="3905280"/>
                <a:ext cx="69480" cy="69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536920" y="1924200"/>
            <a:ext cx="5501880" cy="4363920"/>
            <a:chOff x="2536920" y="1924200"/>
            <a:chExt cx="5501880" cy="4363920"/>
          </a:xfrm>
        </p:grpSpPr>
        <p:sp>
          <p:nvSpPr>
            <p:cNvPr id="102" name=""/>
            <p:cNvSpPr/>
            <p:nvPr/>
          </p:nvSpPr>
          <p:spPr>
            <a:xfrm flipH="1">
              <a:off x="4401720" y="4395960"/>
              <a:ext cx="3637080" cy="189216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2536920" y="1924200"/>
                <a:ext cx="4032000" cy="4032000"/>
                <a:chOff x="2536920" y="1924200"/>
                <a:chExt cx="4032000" cy="4032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536920" y="1924200"/>
                  <a:ext cx="4032000" cy="4032000"/>
                </a:xfrm>
                <a:prstGeom prst="ellipse">
                  <a:avLst/>
                </a:prstGeom>
                <a:solidFill>
                  <a:srgbClr val="339966">
                    <a:alpha val="65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18000" y="390528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156360" y="2270160"/>
                  <a:ext cx="2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371840" y="33894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552920" y="3938760"/>
                <a:ext cx="927000" cy="1790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9105800">
                <a:off x="5486040" y="5586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75400">
                <a:off x="5272200" y="5499720"/>
                <a:ext cx="356400" cy="4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75" y="24"/>
                    </a:moveTo>
                    <a:arcTo wR="10800" hR="10800" stAng="-5631044" swAng="58615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75" y="24"/>
                    </a:moveTo>
                    <a:arcTo wR="10800" hR="10800" stAng="-5631044" swAng="586154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48240" y="5686560"/>
                <a:ext cx="88920" cy="889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 rot="19975800">
            <a:off x="4793040" y="531792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a50021"/>
                </a:solidFill>
                <a:latin typeface="Arial"/>
              </a:rPr>
              <a:t>T a n g e n t e  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7B13-E68A-4D0F-84C3-B7158FEFB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"/>
                            </p:stCondLst>
                            <p:childTnLst>
                              <p:par>
                                <p:cTn id="14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435640" y="5734080"/>
            <a:ext cx="27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a50021"/>
                </a:solidFill>
                <a:latin typeface="Arial"/>
              </a:rPr>
              <a:t>Berührpunkt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36920" y="1924200"/>
            <a:ext cx="5501880" cy="4363920"/>
            <a:chOff x="2536920" y="1924200"/>
            <a:chExt cx="5501880" cy="4363920"/>
          </a:xfrm>
        </p:grpSpPr>
        <p:sp>
          <p:nvSpPr>
            <p:cNvPr id="116" name=""/>
            <p:cNvSpPr/>
            <p:nvPr/>
          </p:nvSpPr>
          <p:spPr>
            <a:xfrm flipH="1">
              <a:off x="4401720" y="4395960"/>
              <a:ext cx="3637080" cy="189216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536920" y="1924200"/>
                <a:ext cx="4032000" cy="4032000"/>
                <a:chOff x="2536920" y="1924200"/>
                <a:chExt cx="4032000" cy="4032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536920" y="1924200"/>
                  <a:ext cx="4032000" cy="4032000"/>
                </a:xfrm>
                <a:prstGeom prst="ellipse">
                  <a:avLst/>
                </a:prstGeom>
                <a:solidFill>
                  <a:srgbClr val="339966">
                    <a:alpha val="65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18000" y="390528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56360" y="2270160"/>
                  <a:ext cx="2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71840" y="33894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4552920" y="3938760"/>
                <a:ext cx="927000" cy="1790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105800">
                <a:off x="5486040" y="5586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4175400">
                <a:off x="5272200" y="5499720"/>
                <a:ext cx="356400" cy="4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75" y="24"/>
                    </a:moveTo>
                    <a:arcTo wR="10800" hR="10800" stAng="-5631044" swAng="58615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75" y="24"/>
                    </a:moveTo>
                    <a:arcTo wR="10800" hR="10800" stAng="-5631044" swAng="586154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48240" y="5686560"/>
                <a:ext cx="88920" cy="889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D649-7EFC-4B4C-A6D3-C0FE4CB72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20"/>
                            </p:stCondLst>
                            <p:childTnLst>
                              <p:par>
                                <p:cTn id="16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128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638360" y="4257720"/>
            <a:ext cx="5851440" cy="16700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960000">
            <a:off x="2791800" y="447984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ff00"/>
                </a:solidFill>
                <a:latin typeface="Arial"/>
              </a:rPr>
              <a:t>S e k a n t e   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2AEE-2D37-4D71-A7D7-FB45ACC693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60"/>
                            </p:stCondLst>
                            <p:childTnLst>
                              <p:par>
                                <p:cTn id="17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135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639880" y="4538520"/>
            <a:ext cx="3229200" cy="9334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960000">
            <a:off x="2830320" y="442908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99cc00"/>
                </a:solidFill>
                <a:latin typeface="Arial"/>
              </a:rPr>
              <a:t>S e h n e  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5600" y="4494240"/>
            <a:ext cx="88920" cy="8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4440" y="5427720"/>
            <a:ext cx="88920" cy="8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5240" y="4538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99cc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38920" y="5472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99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D362-FE19-47FB-996D-68EBDAE096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780"/>
                            </p:stCondLst>
                            <p:childTnLst>
                              <p:par>
                                <p:cTn id="21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grpSp>
          <p:nvGrpSpPr>
            <p:cNvPr id="49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sp>
            <p:nvSpPr>
              <p:cNvPr id="50" name=""/>
              <p:cNvSpPr/>
              <p:nvPr/>
            </p:nvSpPr>
            <p:spPr>
              <a:xfrm>
                <a:off x="2536920" y="1924200"/>
                <a:ext cx="4032000" cy="4032000"/>
              </a:xfrm>
              <a:prstGeom prst="ellipse">
                <a:avLst/>
              </a:prstGeom>
              <a:solidFill>
                <a:srgbClr val="339966">
                  <a:alpha val="6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518000" y="3905280"/>
                <a:ext cx="69480" cy="69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140360" y="393372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Mittelpu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9CC7-F1D9-4E62-8F8D-DE780BFA08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80"/>
                            </p:stCondLst>
                            <p:childTnLst>
                              <p:par>
                                <p:cTn id="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56360" y="220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3300"/>
                </a:solidFill>
                <a:latin typeface="Arial"/>
              </a:rPr>
              <a:t>k ... Kreis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56000" y="1917720"/>
            <a:ext cx="4032000" cy="4032360"/>
            <a:chOff x="2556000" y="1917720"/>
            <a:chExt cx="4032000" cy="4032360"/>
          </a:xfrm>
        </p:grpSpPr>
        <p:sp>
          <p:nvSpPr>
            <p:cNvPr id="57" name=""/>
            <p:cNvSpPr/>
            <p:nvPr/>
          </p:nvSpPr>
          <p:spPr>
            <a:xfrm>
              <a:off x="2556000" y="1917720"/>
              <a:ext cx="4032000" cy="403236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9BAF-0DC4-4FD3-BCDB-2E9656652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61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3095640" y="2495520"/>
            <a:ext cx="2952720" cy="287676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4850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Kreisfläch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BB52-BAF1-4ADC-BD5E-E0A41B6C7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12960" y="1200240"/>
            <a:ext cx="5467320" cy="5467320"/>
          </a:xfrm>
          <a:prstGeom prst="donut">
            <a:avLst>
              <a:gd name="adj" fmla="val 12921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95640" y="5084640"/>
            <a:ext cx="2952720" cy="122076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4850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 e r i p h e r i 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69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DE28-51DB-4917-93E5-4F43251E1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21" repeatCount="4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52920" y="3940200"/>
            <a:ext cx="20160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75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732200" y="394020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Radius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A9C9-25EB-46C5-BB12-B13B6B834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"/>
                            </p:stCondLst>
                            <p:childTnLst>
                              <p:par>
                                <p:cTn id="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81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 flipV="1">
            <a:off x="2678040" y="3220920"/>
            <a:ext cx="3745080" cy="1440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340000">
            <a:off x="3043440" y="4052520"/>
            <a:ext cx="32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9933"/>
                </a:solidFill>
                <a:latin typeface="Arial"/>
              </a:rPr>
              <a:t>Durchmesser</a:t>
            </a:r>
            <a:r>
              <a:rPr b="1" lang="de-AT" sz="18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de-AT" sz="2000" spc="-1" strike="noStrike">
                <a:solidFill>
                  <a:srgbClr val="ff9933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680A-0973-423A-837D-5C006745D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20"/>
                            </p:stCondLst>
                            <p:childTnLst>
                              <p:par>
                                <p:cTn id="10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88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413080" y="1692360"/>
            <a:ext cx="4305240" cy="4498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764200">
            <a:off x="2923920" y="3983400"/>
            <a:ext cx="27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00"/>
                </a:solidFill>
                <a:latin typeface="Arial"/>
              </a:rPr>
              <a:t>Z e n t </a:t>
            </a:r>
            <a:r>
              <a:rPr b="1" lang="de-AT" sz="2000" spc="-1" strike="noStrike">
                <a:solidFill>
                  <a:srgbClr val="ffff00"/>
                </a:solidFill>
                <a:latin typeface="Arial"/>
              </a:rPr>
              <a:t>r a l e  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01BD-D6B3-466C-90DA-5239BD67F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"/>
                            </p:stCondLst>
                            <p:childTnLst>
                              <p:par>
                                <p:cTn id="1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2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95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454800" y="1503360"/>
            <a:ext cx="1776240" cy="396252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960000">
            <a:off x="6131880" y="30913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9900cc"/>
                </a:solidFill>
                <a:latin typeface="Arial"/>
              </a:rPr>
              <a:t>P a s s a n t e  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08D0-CE66-4415-A48D-4DA86B3EEB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"/>
                            </p:stCondLst>
                            <p:childTnLst>
                              <p:par>
                                <p:cTn id="137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17:28:24Z</dcterms:created>
  <dc:creator>Katharina Luksch</dc:creator>
  <dc:description/>
  <dc:language>en-US</dc:language>
  <cp:lastModifiedBy>KS</cp:lastModifiedBy>
  <dcterms:modified xsi:type="dcterms:W3CDTF">2004-06-26T21:48:12Z</dcterms:modified>
  <cp:revision>54</cp:revision>
  <dc:subject/>
  <dc:title>Begriffe rund um den Kreis</dc:title>
</cp:coreProperties>
</file>